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4.wmf" ContentType="image/x-wmf"/>
  <Override PartName="/ppt/media/image23.png" ContentType="image/png"/>
  <Override PartName="/ppt/media/image22.png" ContentType="image/png"/>
  <Override PartName="/ppt/media/image21.jpeg" ContentType="image/jpeg"/>
  <Override PartName="/ppt/media/image28.jpeg" ContentType="image/jpeg"/>
  <Override PartName="/ppt/media/image27.jpeg" ContentType="image/jpeg"/>
  <Override PartName="/ppt/media/image6.jpeg" ContentType="image/jpeg"/>
  <Override PartName="/ppt/media/image7.wmf" ContentType="image/x-wmf"/>
  <Override PartName="/ppt/media/image13.png" ContentType="image/png"/>
  <Override PartName="/ppt/media/image12.jpeg" ContentType="image/jpeg"/>
  <Override PartName="/ppt/media/image31.jpeg" ContentType="image/jpeg"/>
  <Override PartName="/ppt/media/image8.wmf" ContentType="image/x-wmf"/>
  <Override PartName="/ppt/media/image4.jpeg" ContentType="image/jpeg"/>
  <Override PartName="/ppt/media/image25.png" ContentType="image/png"/>
  <Override PartName="/ppt/media/image32.jpeg" ContentType="image/jpeg"/>
  <Override PartName="/ppt/media/image33.png" ContentType="image/png"/>
  <Override PartName="/ppt/media/image16.wmf" ContentType="image/x-wmf"/>
  <Override PartName="/ppt/media/image9.jpeg" ContentType="image/jpeg"/>
  <Override PartName="/ppt/media/image11.png" ContentType="image/png"/>
  <Override PartName="/ppt/media/image34.wmf" ContentType="image/x-wmf"/>
  <Override PartName="/ppt/media/image35.wmf" ContentType="image/x-wmf"/>
  <Override PartName="/ppt/media/image36.png" ContentType="image/png"/>
  <Override PartName="/ppt/media/image15.png" ContentType="image/png"/>
  <Override PartName="/ppt/media/image18.jpeg" ContentType="image/jpeg"/>
  <Override PartName="/ppt/media/image19.wmf" ContentType="image/x-wmf"/>
  <Override PartName="/ppt/media/image3.jpeg" ContentType="image/jpeg"/>
  <Override PartName="/ppt/media/image30.png" ContentType="image/png"/>
  <Override PartName="/ppt/media/image5.png" ContentType="image/png"/>
  <Override PartName="/ppt/media/image29.jpeg" ContentType="image/jpeg"/>
  <Override PartName="/ppt/media/image10.png" ContentType="image/png"/>
  <Override PartName="/ppt/media/image1.jpeg" ContentType="image/jpeg"/>
  <Override PartName="/ppt/media/image14.wmf" ContentType="image/x-wmf"/>
  <Override PartName="/ppt/media/image17.wmf" ContentType="image/x-wmf"/>
  <Override PartName="/ppt/media/image20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2C3A5-CAAA-4A4E-A189-1B9F7CB81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22FFA-56BD-4A66-A9D1-294D584C2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542E9-0E50-4A00-800A-864FBB62D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F628B-B0B8-4B85-A5B1-5603A3C7F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C784F-E86D-482D-B791-5849A86D3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02D9D-C27F-4BB7-B912-916E5C38A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BEB55-D86C-41DE-A8FB-C79DACAF2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E5580-5750-4E55-B30E-2FDB39432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905ED-C29C-4CFC-84EB-3015ADEFB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6C596-0E1D-41A9-9967-70D423D25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2CA9E-6D92-43FB-B202-F85F041EB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EE4D7-E345-4D2A-A58D-37B8CB9CB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B143D-C856-4A47-8065-8C2F81766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388A8-70F1-4729-939D-2D733F220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1AB83-77B3-4C8D-B804-F1675FD2E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ACC7F-1EEC-4208-A3F7-0258350C0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29A30-8ADF-4C0F-9524-8A9197F6E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3B7EE-3F72-426B-9A47-7BB4FBFF1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EAE19-33BA-4BEE-A3EA-86690BC10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368B8-7C80-4508-B1ED-65115EF0B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4360" y="4344840"/>
            <a:ext cx="548928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36345-C07E-46AD-99C1-B01245B1F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52722-D2D0-428F-8B37-E5BD995B3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263D1-2CB4-49F2-9693-8B5A2A5ED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4360" y="4344840"/>
            <a:ext cx="548928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3C789-15D6-4AFA-91E8-A3051FF81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B1F79-1DD6-4144-A357-F56086D77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0B897-AA48-4535-BE7F-BBFBD96B6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B1152-854E-49D3-8589-103621E3B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49E60-EACC-478F-B84A-94BDC1A3B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86780-8ECC-44AA-9FD8-55D0E3E89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45528-C794-4030-A64C-B65E58417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C47A9-E60B-4FD7-BB38-567B3356B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779A6-3670-4C2F-9667-E86C0202F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87311-179D-4E04-A3EB-05DAE4FE7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CAF02-9D41-4E20-A7D5-7F44915A4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ACDF2-27E1-42DE-9568-2A74D0687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15991-1085-4313-B756-24D096357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BFC0D-1196-4B8A-A234-E8F1C83592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2BF57-45A4-4453-9482-A6B66F1B65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524B8-7141-42FB-A860-84332FFEBA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D15C5-CD56-4FD1-9F1A-53BB4A933D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282E-545D-49AA-83B2-FA50448B13D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0A76-9B9A-4A35-8D93-E8B190F7F44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00D5-17AA-4531-B486-256AB971DD4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94C5-31D0-4699-9C22-BF1F89B537C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EE8B-5705-4A75-820E-F755CC8E13B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A487-DEF2-413E-8CD5-441EDCC7342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DE15-134B-4F8D-BEA7-C663D21553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EC175-D77A-4ED5-9B53-FCAE5EDBB0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9598-3744-43B5-B740-8F1A95B7128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CB1F-CC91-4659-B48F-BABF0E1A0D7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F8C5-9999-47CC-BF3A-556235F4738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A0AE-486C-439E-8426-E0694D06214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BCD6-5027-41FA-9B76-D27AF726CE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A8CF9-02DC-4F60-9931-2D30DB5236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94BB1-A5AE-4448-A446-DFB49FA128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60A67-0E69-4159-B971-1D553BB957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E5842-012C-4E50-A28A-86E0E210DE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40CCD-61FE-41D9-9E6A-2A30273AAA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C0D95-12E0-4B9A-8C8E-4B31809C14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F0035-68A5-4E44-AEC7-C34B86D4B6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6620A-D18E-4B6B-999D-99B8B5B7A2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7" descr="CLSI_WHO_Blue_CMYK1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626BB-0757-4014-9687-596C4C1A28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wmf"/><Relationship Id="rId7" Type="http://schemas.openxmlformats.org/officeDocument/2006/relationships/image" Target="../media/image11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7EF94-2C45-44C0-94E4-E5A569B7F7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600" spc="-1" strike="noStrike">
                <a:solidFill>
                  <a:srgbClr val="ffffff"/>
                </a:solidFill>
                <a:latin typeface="Verdana"/>
              </a:rPr>
              <a:t>Évaluation : Audits</a:t>
            </a:r>
            <a:endParaRPr b="0" lang="en-US" sz="4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89501-10DE-433E-BCBD-C0B690795A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Picture 5" descr="MCj04349290000[1]"/>
          <p:cNvPicPr/>
          <p:nvPr/>
        </p:nvPicPr>
        <p:blipFill>
          <a:blip r:embed="rId1"/>
          <a:stretch/>
        </p:blipFill>
        <p:spPr>
          <a:xfrm>
            <a:off x="2057400" y="47242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"/>
          <p:cNvPicPr/>
          <p:nvPr/>
        </p:nvPicPr>
        <p:blipFill>
          <a:blip r:embed="rId2"/>
          <a:srcRect l="0" t="15625" r="0" b="0"/>
          <a:stretch/>
        </p:blipFill>
        <p:spPr>
          <a:xfrm>
            <a:off x="5029200" y="4819680"/>
            <a:ext cx="3220920" cy="20383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0" y="1218960"/>
            <a:ext cx="91440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cueillir l’information su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processus et les procédures opératoi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 personnel, l’équipement, méthodes d’analy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’environnement, la manipulation des échantill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 contrôle de qualité et la vérification des résulta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pratiques d’enregistrement et de rappo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CCE43-95AC-43D7-92BA-F5BFB172D0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parer les résultants aux documents du système de gestion de la qualité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er toute rupture ou déviation par rapport aux procédur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ire quelque chose des résultats d’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528E0-566E-4A89-B3DE-C709A9D7DB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Picture 18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178" name="Oval 5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Arial"/>
              </a:rPr>
              <a:t>Autorités de san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Oval 6"/>
          <p:cNvSpPr/>
          <p:nvPr/>
        </p:nvSpPr>
        <p:spPr>
          <a:xfrm>
            <a:off x="4724280" y="914400"/>
            <a:ext cx="441972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Agence d’accrédi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Oval 7"/>
          <p:cNvSpPr/>
          <p:nvPr/>
        </p:nvSpPr>
        <p:spPr>
          <a:xfrm>
            <a:off x="5562720" y="4343400"/>
            <a:ext cx="358128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rogramme de santé publiq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Oval 8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Arial"/>
              </a:rPr>
              <a:t>Bailleurs</a:t>
            </a:r>
            <a:br>
              <a:rPr sz="3200"/>
            </a:br>
            <a:r>
              <a:rPr b="1" lang="fr-FR" sz="3200" spc="-1" strike="noStrike">
                <a:solidFill>
                  <a:srgbClr val="00007d"/>
                </a:solidFill>
                <a:latin typeface="Arial"/>
              </a:rPr>
              <a:t>de fon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Rectangle 17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eurs extern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19" descr="lab_design"/>
          <p:cNvPicPr/>
          <p:nvPr/>
        </p:nvPicPr>
        <p:blipFill>
          <a:blip r:embed="rId2"/>
          <a:stretch/>
        </p:blipFill>
        <p:spPr>
          <a:xfrm>
            <a:off x="3048120" y="1981080"/>
            <a:ext cx="2593800" cy="312444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20"/>
          <p:cNvSpPr/>
          <p:nvPr/>
        </p:nvSpPr>
        <p:spPr>
          <a:xfrm>
            <a:off x="3124080" y="312408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04D09-F324-4922-ACD1-C2C3B3FAFE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s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Group 8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189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1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3" name="Group 32"/>
          <p:cNvGrpSpPr/>
          <p:nvPr/>
        </p:nvGrpSpPr>
        <p:grpSpPr>
          <a:xfrm>
            <a:off x="533520" y="3581280"/>
            <a:ext cx="5234040" cy="2933640"/>
            <a:chOff x="533520" y="3581280"/>
            <a:chExt cx="5234040" cy="2933640"/>
          </a:xfrm>
        </p:grpSpPr>
        <p:pic>
          <p:nvPicPr>
            <p:cNvPr id="194" name="Picture 5" descr="j0213395"/>
            <p:cNvPicPr/>
            <p:nvPr/>
          </p:nvPicPr>
          <p:blipFill>
            <a:blip r:embed="rId1"/>
            <a:stretch/>
          </p:blipFill>
          <p:spPr>
            <a:xfrm>
              <a:off x="4114800" y="442332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13" descr="j0433934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Text Box 16"/>
            <p:cNvSpPr/>
            <p:nvPr/>
          </p:nvSpPr>
          <p:spPr>
            <a:xfrm>
              <a:off x="1905120" y="4227120"/>
              <a:ext cx="2377800" cy="22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2800" spc="-1" strike="noStrike">
                  <a:solidFill>
                    <a:srgbClr val="000000"/>
                  </a:solidFill>
                  <a:latin typeface="Verdana"/>
                </a:rPr>
                <a:t>Avertir personnel, aménager emploi du temps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7" name="Rectangle 17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éparation d’un audit externe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Text Box 19"/>
          <p:cNvSpPr/>
          <p:nvPr/>
        </p:nvSpPr>
        <p:spPr>
          <a:xfrm>
            <a:off x="5638680" y="4648320"/>
            <a:ext cx="3505320" cy="25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assembler les informations et les regist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9" name="Group 31"/>
          <p:cNvGrpSpPr/>
          <p:nvPr/>
        </p:nvGrpSpPr>
        <p:grpSpPr>
          <a:xfrm>
            <a:off x="380880" y="1447920"/>
            <a:ext cx="3885480" cy="2361600"/>
            <a:chOff x="380880" y="1447920"/>
            <a:chExt cx="3885480" cy="2361600"/>
          </a:xfrm>
        </p:grpSpPr>
        <p:pic>
          <p:nvPicPr>
            <p:cNvPr id="200" name="Picture 27" descr="MCj03636380000[1]"/>
            <p:cNvPicPr/>
            <p:nvPr/>
          </p:nvPicPr>
          <p:blipFill>
            <a:blip r:embed="rId3"/>
            <a:stretch/>
          </p:blipFill>
          <p:spPr>
            <a:xfrm>
              <a:off x="380880" y="1447920"/>
              <a:ext cx="3650400" cy="236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 Box 29"/>
            <p:cNvSpPr/>
            <p:nvPr/>
          </p:nvSpPr>
          <p:spPr>
            <a:xfrm>
              <a:off x="1087200" y="2149920"/>
              <a:ext cx="3179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ifier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Espace réservé du pied de page 2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6A2F1-5289-48A8-AFB6-21E11DEA1F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AutoShape 21"/>
          <p:cNvSpPr/>
          <p:nvPr/>
        </p:nvSpPr>
        <p:spPr>
          <a:xfrm rot="10800000">
            <a:off x="2438280" y="5409720"/>
            <a:ext cx="6400800" cy="83844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apport d’audit externe et plan d’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Identifiez manquements/non conformités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Rectangle 12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nregistrez les résultats et actions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édigez un rapp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Rectangle 14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Planifiez des actions correcti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Rectangle 16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7d"/>
                </a:solidFill>
                <a:latin typeface="Verdana"/>
              </a:rPr>
              <a:t>Développez un calendri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7d"/>
                </a:solidFill>
                <a:latin typeface="Verdana"/>
              </a:rPr>
              <a:t>Attribuez les responsabilité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Text Box 19"/>
          <p:cNvSpPr/>
          <p:nvPr/>
        </p:nvSpPr>
        <p:spPr>
          <a:xfrm>
            <a:off x="4495680" y="1066680"/>
            <a:ext cx="44197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Laboratoire revoit/ comprend les recommand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20"/>
          <p:cNvSpPr/>
          <p:nvPr/>
        </p:nvSpPr>
        <p:spPr>
          <a:xfrm>
            <a:off x="2914560" y="1219320"/>
            <a:ext cx="1524240" cy="76176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22"/>
          <p:cNvSpPr/>
          <p:nvPr/>
        </p:nvSpPr>
        <p:spPr>
          <a:xfrm rot="5400000">
            <a:off x="6705000" y="3276360"/>
            <a:ext cx="3657600" cy="76212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AutoShape 26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ext Box 27"/>
          <p:cNvSpPr/>
          <p:nvPr/>
        </p:nvSpPr>
        <p:spPr>
          <a:xfrm>
            <a:off x="609480" y="1447920"/>
            <a:ext cx="2133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apport et résumé des auditeurs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DD072-487F-4853-8862-0A8D74F7AF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7" name="Picture 86" descr="MCj04099450000[1]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3" descr="spy_guy_bck_col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7"/>
          <p:cNvSpPr/>
          <p:nvPr/>
        </p:nvSpPr>
        <p:spPr>
          <a:xfrm>
            <a:off x="6553080" y="91440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Picture 9" descr="j0424784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10"/>
          <p:cNvSpPr/>
          <p:nvPr/>
        </p:nvSpPr>
        <p:spPr>
          <a:xfrm>
            <a:off x="6400800" y="35053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Moins coûteux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Rectangle 78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 intern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Text Box 77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equis par standards IS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né régulièr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né quand problèmes identifié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ext Box 84"/>
          <p:cNvSpPr/>
          <p:nvPr/>
        </p:nvSpPr>
        <p:spPr>
          <a:xfrm>
            <a:off x="2895480" y="1293840"/>
            <a:ext cx="2667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garder ses propres process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Picture 87" descr="bulles_CDC"/>
          <p:cNvPicPr/>
          <p:nvPr/>
        </p:nvPicPr>
        <p:blipFill>
          <a:blip r:embed="rId4"/>
          <a:stretch/>
        </p:blipFill>
        <p:spPr>
          <a:xfrm>
            <a:off x="228600" y="3670200"/>
            <a:ext cx="266688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2B4D8-9D7F-4E3D-8E87-12237E4247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Valeur des audits intern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 préparer pour un audit exter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nsibiliser 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pportunité d’amélio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ctions préventives et correctiv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pportunité de formation contin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pondre aux standards de qual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EEFDF-271D-49FF-BAE2-8D10506299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s Internes : Exigences IS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23"/>
          <p:cNvSpPr/>
          <p:nvPr/>
        </p:nvSpPr>
        <p:spPr>
          <a:xfrm>
            <a:off x="0" y="1752480"/>
            <a:ext cx="914400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ogramme d’audit ex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océdures documenté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uditeurs indépendants de l’activ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ésultats rendus sous forme de rapport et revus par la direction d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ction de suivi rap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3EAA0-A9BC-41A4-B958-1088908D3C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i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Arc 5"/>
          <p:cNvSpPr/>
          <p:nvPr/>
        </p:nvSpPr>
        <p:spPr>
          <a:xfrm>
            <a:off x="7238880" y="2286000"/>
            <a:ext cx="1447920" cy="1523880"/>
          </a:xfrm>
          <a:prstGeom prst="pie">
            <a:avLst/>
          </a:prstGeom>
          <a:gradFill rotWithShape="0">
            <a:gsLst>
              <a:gs pos="0">
                <a:srgbClr val="b27e5e"/>
              </a:gs>
              <a:gs pos="100000">
                <a:srgbClr val="523a2c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Arc 6"/>
          <p:cNvSpPr/>
          <p:nvPr/>
        </p:nvSpPr>
        <p:spPr>
          <a:xfrm rot="5400000">
            <a:off x="5295960" y="2857680"/>
            <a:ext cx="1295280" cy="1676160"/>
          </a:xfrm>
          <a:prstGeom prst="pie">
            <a:avLst/>
          </a:prstGeom>
          <a:solidFill>
            <a:srgbClr val="ffd91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AutoShape 7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udit In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AutoShape 8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udit In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9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udit In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5257800" y="160020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ériolog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Text Box 11"/>
          <p:cNvSpPr/>
          <p:nvPr/>
        </p:nvSpPr>
        <p:spPr>
          <a:xfrm>
            <a:off x="3581280" y="76212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é a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Rectangle 12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udits intern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Text Box 13"/>
          <p:cNvSpPr/>
          <p:nvPr/>
        </p:nvSpPr>
        <p:spPr>
          <a:xfrm>
            <a:off x="0" y="1981080"/>
            <a:ext cx="403848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Ne pas auditer votre propre travai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Rectangle 14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utre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EB43E-BC75-439E-8401-C7FE713C7A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1" name="Group 12"/>
          <p:cNvGrpSpPr/>
          <p:nvPr/>
        </p:nvGrpSpPr>
        <p:grpSpPr>
          <a:xfrm>
            <a:off x="152280" y="533520"/>
            <a:ext cx="8991000" cy="5790600"/>
            <a:chOff x="152280" y="533520"/>
            <a:chExt cx="8991000" cy="5790600"/>
          </a:xfrm>
        </p:grpSpPr>
        <p:sp>
          <p:nvSpPr>
            <p:cNvPr id="252" name="AutoShape 11"/>
            <p:cNvSpPr/>
            <p:nvPr/>
          </p:nvSpPr>
          <p:spPr>
            <a:xfrm>
              <a:off x="152280" y="533520"/>
              <a:ext cx="8991000" cy="57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Préparer </a:t>
              </a:r>
              <a:br>
                <a:rPr sz="2500"/>
              </a:b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fr-FR" sz="1500" spc="-1" strike="noStrike">
                  <a:solidFill>
                    <a:srgbClr val="000000"/>
                  </a:solidFill>
                  <a:latin typeface="Verdana"/>
                </a:rPr>
                <a:t>listes de contrôle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500" spc="-1" strike="noStrike">
                  <a:solidFill>
                    <a:srgbClr val="000000"/>
                  </a:solidFill>
                  <a:latin typeface="Verdana"/>
                </a:rPr>
                <a:t>formulaires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6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Planifier  </a:t>
              </a:r>
              <a:br>
                <a:rPr sz="2500"/>
              </a:b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br>
                <a:rPr sz="2500"/>
              </a:b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réguliers</a:t>
              </a:r>
              <a:endParaRPr b="0" lang="en-US" sz="2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7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8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500" spc="-1" strike="noStrike">
                  <a:solidFill>
                    <a:srgbClr val="00007d"/>
                  </a:solidFill>
                  <a:latin typeface="Verdana"/>
                </a:rPr>
                <a:t>Programme</a:t>
              </a:r>
              <a:br>
                <a:rPr sz="2500"/>
              </a:br>
              <a:r>
                <a:rPr b="1" lang="fr-FR" sz="2500" spc="-1" strike="noStrike">
                  <a:solidFill>
                    <a:srgbClr val="00007d"/>
                  </a:solidFill>
                  <a:latin typeface="Verdana"/>
                </a:rPr>
                <a:t> d’audit</a:t>
              </a:r>
              <a:br>
                <a:rPr sz="2500"/>
              </a:br>
              <a:r>
                <a:rPr b="1" lang="fr-FR" sz="2500" spc="-1" strike="noStrike">
                  <a:solidFill>
                    <a:srgbClr val="00007d"/>
                  </a:solidFill>
                  <a:latin typeface="Verdana"/>
                </a:rPr>
                <a:t> interne</a:t>
              </a:r>
              <a:endParaRPr b="0" lang="en-US" sz="2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Attribuer </a:t>
              </a:r>
              <a:br>
                <a:rPr sz="2500"/>
              </a:br>
              <a:r>
                <a:rPr b="1" lang="fr-FR" sz="2100" spc="-1" strike="noStrike">
                  <a:solidFill>
                    <a:srgbClr val="000000"/>
                  </a:solidFill>
                  <a:latin typeface="Verdana"/>
                </a:rPr>
                <a:t>responsabilité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0" name="Text Box 3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1" name="Picture 7" descr="j0432664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bs00272_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0" descr="MCj04349290000[1]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2" descr="head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719E2-73BE-4556-9EB4-0ECADABE47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 la fin du module, les participants seront en mesure de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velopper un processus préparant le personnel à un audit exter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lanifier et gérer un audit inter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iscuter comment utiliser les résultats d’un aud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laidoyer à propos de l’importance des mesures correctives à prend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BE828-D138-4988-B97B-DCDB2898D4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AutoShape 24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AutoShape 13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1828800" y="76212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Verdana"/>
              </a:rPr>
              <a:t>Directeur d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AutoShape 6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Oval 7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Text Box 9"/>
          <p:cNvSpPr/>
          <p:nvPr/>
        </p:nvSpPr>
        <p:spPr>
          <a:xfrm>
            <a:off x="1066680" y="2362320"/>
            <a:ext cx="3048120" cy="15570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Verdana"/>
              </a:rPr>
              <a:t>Détermine la ligne de conduite d’audit inter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568440" y="4843440"/>
            <a:ext cx="40384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fr-FR" sz="1800" spc="-1" strike="noStrike">
                <a:solidFill>
                  <a:srgbClr val="ffff00"/>
                </a:solidFill>
                <a:latin typeface="Verdana"/>
              </a:rPr>
              <a:t>Assigne responsabilités</a:t>
            </a:r>
            <a:r>
              <a:rPr b="0" lang="fr-FR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fr-FR" sz="1800" spc="-1" strike="noStrike">
                <a:solidFill>
                  <a:srgbClr val="ffff00"/>
                </a:solidFill>
                <a:latin typeface="Verdana"/>
              </a:rPr>
              <a:t>pour le programme d’audit interne – </a:t>
            </a:r>
            <a:r>
              <a:rPr b="0" lang="fr-FR" sz="1800" spc="-1" strike="noStrike">
                <a:solidFill>
                  <a:srgbClr val="ff6600"/>
                </a:solidFill>
                <a:latin typeface="Verdana"/>
              </a:rPr>
              <a:t>responsable qualité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Text Box 12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 d’audit inter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6400800" y="2514600"/>
            <a:ext cx="20574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Verdana"/>
              </a:rPr>
              <a:t>soutient les mesures d’actions correcti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AutoShape 20"/>
          <p:cNvSpPr/>
          <p:nvPr/>
        </p:nvSpPr>
        <p:spPr>
          <a:xfrm rot="5400000">
            <a:off x="1943280" y="1333440"/>
            <a:ext cx="761760" cy="99072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AutoShape 21"/>
          <p:cNvSpPr/>
          <p:nvPr/>
        </p:nvSpPr>
        <p:spPr>
          <a:xfrm rot="5400000">
            <a:off x="1942560" y="3543120"/>
            <a:ext cx="914400" cy="114300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AutoShape 22"/>
          <p:cNvSpPr/>
          <p:nvPr/>
        </p:nvSpPr>
        <p:spPr>
          <a:xfrm rot="5400000">
            <a:off x="6819840" y="1485720"/>
            <a:ext cx="990720" cy="106704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AutoShape 23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AutoShape 26"/>
          <p:cNvSpPr/>
          <p:nvPr/>
        </p:nvSpPr>
        <p:spPr>
          <a:xfrm>
            <a:off x="1905120" y="5715000"/>
            <a:ext cx="761760" cy="53352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8C20B-CF5A-44F2-A2E0-D59513531A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AutoShape 31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Text Box 5"/>
          <p:cNvSpPr/>
          <p:nvPr/>
        </p:nvSpPr>
        <p:spPr>
          <a:xfrm>
            <a:off x="152280" y="457200"/>
            <a:ext cx="8686800" cy="16250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Verdana"/>
              </a:rPr>
              <a:t>Responsabilité du Responsable Qual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Créer et maintenir un système d’audit inter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Oval 7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3200400" y="2652840"/>
            <a:ext cx="2666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Coordonne le processus d’audit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Text Box 12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7d"/>
                </a:solidFill>
                <a:latin typeface="Verdana"/>
              </a:rPr>
              <a:t>Gérer</a:t>
            </a:r>
            <a:br>
              <a:rPr sz="2000"/>
            </a:br>
            <a:r>
              <a:rPr b="1" lang="fr-FR" sz="2000" spc="-1" strike="noStrike">
                <a:solidFill>
                  <a:srgbClr val="00007d"/>
                </a:solidFill>
                <a:latin typeface="Verdana"/>
              </a:rPr>
              <a:t>actions correctiv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17"/>
          <p:cNvSpPr/>
          <p:nvPr/>
        </p:nvSpPr>
        <p:spPr>
          <a:xfrm rot="5400000">
            <a:off x="4076640" y="1942920"/>
            <a:ext cx="609480" cy="83808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18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ext Box 19"/>
          <p:cNvSpPr/>
          <p:nvPr/>
        </p:nvSpPr>
        <p:spPr>
          <a:xfrm>
            <a:off x="457200" y="23623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7d"/>
                </a:solidFill>
                <a:latin typeface="Verdana"/>
              </a:rPr>
              <a:t>Établir un calendri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AutoShape 21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’audit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inter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Oval 24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Oval 25"/>
          <p:cNvSpPr/>
          <p:nvPr/>
        </p:nvSpPr>
        <p:spPr>
          <a:xfrm>
            <a:off x="304920" y="4876920"/>
            <a:ext cx="2057400" cy="137160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Text Box 26"/>
          <p:cNvSpPr/>
          <p:nvPr/>
        </p:nvSpPr>
        <p:spPr>
          <a:xfrm>
            <a:off x="333360" y="503244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Rapport pour le personn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AutoShape 14"/>
          <p:cNvSpPr/>
          <p:nvPr/>
        </p:nvSpPr>
        <p:spPr>
          <a:xfrm rot="11374200">
            <a:off x="2133000" y="2567880"/>
            <a:ext cx="1066680" cy="55548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AutoShape 23"/>
          <p:cNvSpPr/>
          <p:nvPr/>
        </p:nvSpPr>
        <p:spPr>
          <a:xfrm>
            <a:off x="5181480" y="5410080"/>
            <a:ext cx="1447920" cy="45720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AutoShape 22"/>
          <p:cNvSpPr/>
          <p:nvPr/>
        </p:nvSpPr>
        <p:spPr>
          <a:xfrm rot="10800000">
            <a:off x="2209680" y="5333760"/>
            <a:ext cx="1371600" cy="53316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AutoShape 28"/>
          <p:cNvSpPr/>
          <p:nvPr/>
        </p:nvSpPr>
        <p:spPr>
          <a:xfrm>
            <a:off x="380880" y="3276720"/>
            <a:ext cx="1905120" cy="12189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Text Box 29"/>
          <p:cNvSpPr/>
          <p:nvPr/>
        </p:nvSpPr>
        <p:spPr>
          <a:xfrm>
            <a:off x="457200" y="32767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7d"/>
                </a:solidFill>
                <a:latin typeface="Verdana"/>
              </a:rPr>
              <a:t>Sélectionner et former des auditeu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AutoShape 30"/>
          <p:cNvSpPr/>
          <p:nvPr/>
        </p:nvSpPr>
        <p:spPr>
          <a:xfrm rot="9818400">
            <a:off x="2133000" y="3276360"/>
            <a:ext cx="1066680" cy="55548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AutoShape 15"/>
          <p:cNvSpPr/>
          <p:nvPr/>
        </p:nvSpPr>
        <p:spPr>
          <a:xfrm rot="19251600">
            <a:off x="5257440" y="3733920"/>
            <a:ext cx="1828800" cy="45720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Text Box 27"/>
          <p:cNvSpPr/>
          <p:nvPr/>
        </p:nvSpPr>
        <p:spPr>
          <a:xfrm>
            <a:off x="6553080" y="527688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Rapport pour la dir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AD597-1A43-4782-9366-C2B726E7EE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ner un audit intern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839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velopper un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diger des listes de contrô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union d’ouver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cueillir et analyser les inform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registrer les résulta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union de clô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apport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Espace réservé du pied de page 4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18178-64D1-4A43-96AA-E1F4264596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1" name="Picture 109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124080" y="3809880"/>
            <a:ext cx="2438640" cy="2340000"/>
          </a:xfrm>
          <a:prstGeom prst="rect">
            <a:avLst/>
          </a:prstGeom>
          <a:ln w="0">
            <a:noFill/>
          </a:ln>
        </p:spPr>
      </p:pic>
      <p:grpSp>
        <p:nvGrpSpPr>
          <p:cNvPr id="312" name="Group 96"/>
          <p:cNvGrpSpPr/>
          <p:nvPr/>
        </p:nvGrpSpPr>
        <p:grpSpPr>
          <a:xfrm>
            <a:off x="2639880" y="3657600"/>
            <a:ext cx="3228840" cy="2860560"/>
            <a:chOff x="2639880" y="3657600"/>
            <a:chExt cx="3228840" cy="2860560"/>
          </a:xfrm>
        </p:grpSpPr>
        <p:sp>
          <p:nvSpPr>
            <p:cNvPr id="313" name="AutoShape 95"/>
            <p:cNvSpPr/>
            <p:nvPr/>
          </p:nvSpPr>
          <p:spPr>
            <a:xfrm>
              <a:off x="2868480" y="3657600"/>
              <a:ext cx="2770200" cy="28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620643"/>
            <p:cNvSpPr/>
            <p:nvPr/>
          </p:nvSpPr>
          <p:spPr>
            <a:xfrm>
              <a:off x="3240720" y="3857400"/>
              <a:ext cx="2026440" cy="1840320"/>
            </a:xfrm>
            <a:prstGeom prst="pie">
              <a:avLst/>
            </a:pr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" name="_s620644"/>
            <p:cNvSpPr/>
            <p:nvPr/>
          </p:nvSpPr>
          <p:spPr>
            <a:xfrm rot="7200000">
              <a:off x="3610800" y="4198680"/>
              <a:ext cx="1840320" cy="2026440"/>
            </a:xfrm>
            <a:prstGeom prst="pie">
              <a:avLst/>
            </a:pr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" name="_s620646"/>
            <p:cNvSpPr/>
            <p:nvPr/>
          </p:nvSpPr>
          <p:spPr>
            <a:xfrm rot="14400000">
              <a:off x="3057120" y="4201200"/>
              <a:ext cx="1840320" cy="2026440"/>
            </a:xfrm>
            <a:prstGeom prst="pie">
              <a:avLst/>
            </a:pr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" name="_s620641"/>
            <p:cNvSpPr/>
            <p:nvPr/>
          </p:nvSpPr>
          <p:spPr>
            <a:xfrm>
              <a:off x="4808880" y="41943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8" name="_s620642"/>
            <p:cNvSpPr/>
            <p:nvPr/>
          </p:nvSpPr>
          <p:spPr>
            <a:xfrm>
              <a:off x="3847320" y="57067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9" name="_s620645"/>
            <p:cNvSpPr/>
            <p:nvPr/>
          </p:nvSpPr>
          <p:spPr>
            <a:xfrm>
              <a:off x="2885760" y="41943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réer un calendrier d’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ener des audits régulièr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udits plus fréquent en cas de problèmes ou de besoin d’amélio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audits devraient au cours du temps revoir tous les points essentiels du système qual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56FD9-C13C-4D85-B02C-E4656928AE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670536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heck-lists (listes de contrôle)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velopper des formulaires pour les actions correctives et les rap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Picture 5" descr="MCj04349290000[1]"/>
          <p:cNvPicPr/>
          <p:nvPr/>
        </p:nvPicPr>
        <p:blipFill>
          <a:blip r:embed="rId1"/>
          <a:stretch/>
        </p:blipFill>
        <p:spPr>
          <a:xfrm>
            <a:off x="6629400" y="6094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7" descr="CORRECTIVE ACTION FORM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EE32B-B800-4CB0-8995-FE352D80E5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0" name="Picture 28" descr="Untitled-7"/>
          <p:cNvPicPr/>
          <p:nvPr/>
        </p:nvPicPr>
        <p:blipFill>
          <a:blip r:embed="rId1"/>
          <a:stretch/>
        </p:blipFill>
        <p:spPr>
          <a:xfrm>
            <a:off x="685800" y="1143000"/>
            <a:ext cx="716292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B3770-B052-458E-AD1B-0CB97068B1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AutoShape 2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AutoShape 3"/>
          <p:cNvSpPr/>
          <p:nvPr/>
        </p:nvSpPr>
        <p:spPr>
          <a:xfrm rot="5400000">
            <a:off x="1294920" y="3047760"/>
            <a:ext cx="1295280" cy="129564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Les audits doivent conduire à des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AutoShape 6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i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D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AutoShape 8"/>
          <p:cNvSpPr/>
          <p:nvPr/>
        </p:nvSpPr>
        <p:spPr>
          <a:xfrm>
            <a:off x="5638680" y="1371600"/>
            <a:ext cx="3200400" cy="312408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Mise en place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 des a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AutoShape 7"/>
          <p:cNvSpPr/>
          <p:nvPr/>
        </p:nvSpPr>
        <p:spPr>
          <a:xfrm rot="20101800">
            <a:off x="3123720" y="3885840"/>
            <a:ext cx="3619800" cy="129528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A9788-9862-4CE7-B659-F6F1C026D7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1" name="Picture 5" descr="j0435880"/>
          <p:cNvPicPr/>
          <p:nvPr/>
        </p:nvPicPr>
        <p:blipFill>
          <a:blip r:embed="rId1"/>
          <a:stretch/>
        </p:blipFill>
        <p:spPr>
          <a:xfrm>
            <a:off x="5486400" y="3166920"/>
            <a:ext cx="2819520" cy="251460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ctions correctives et de rattrapag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es actions sont prises pour améliorer un processus ou corriger un problèm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Text Box 10"/>
          <p:cNvSpPr/>
          <p:nvPr/>
        </p:nvSpPr>
        <p:spPr>
          <a:xfrm>
            <a:off x="228600" y="3809880"/>
            <a:ext cx="556272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Qui est responsable? 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600" spc="-1" strike="noStrike">
                <a:solidFill>
                  <a:srgbClr val="008000"/>
                </a:solidFill>
                <a:latin typeface="Verdana"/>
              </a:rPr>
              <a:t>Responsable qualit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5067E-F4E2-45DD-903D-D1D66C129F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ntreprendre des actions correctiv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r une équipe de résolution de problèm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hercher les causes premiè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commander l’action corrective approprié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ettre en oeuvre l’action correc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Observer l’efficacité de l’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registrer les actions et leurs résulta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rôl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CE383-667F-4C80-9CC0-A40AABBA6D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Formulaire d’opportunité d’amélio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52" name="Picture 6" descr="CORRECTIVE ACTION FORM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53" name="ZoneTexte 5"/>
          <p:cNvSpPr/>
          <p:nvPr/>
        </p:nvSpPr>
        <p:spPr>
          <a:xfrm>
            <a:off x="3200400" y="1447920"/>
            <a:ext cx="2971800" cy="276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Formulaire d’action correctiv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ZoneTexte 6"/>
          <p:cNvSpPr/>
          <p:nvPr/>
        </p:nvSpPr>
        <p:spPr>
          <a:xfrm>
            <a:off x="2362320" y="1963800"/>
            <a:ext cx="32004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Cette action corrective est le résultat de: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ZoneTexte 7"/>
          <p:cNvSpPr/>
          <p:nvPr/>
        </p:nvSpPr>
        <p:spPr>
          <a:xfrm>
            <a:off x="2819520" y="2514600"/>
            <a:ext cx="144756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Audit intern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ZoneTexte 8"/>
          <p:cNvSpPr/>
          <p:nvPr/>
        </p:nvSpPr>
        <p:spPr>
          <a:xfrm>
            <a:off x="2819520" y="2801880"/>
            <a:ext cx="144756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Audit extern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ZoneTexte 9"/>
          <p:cNvSpPr/>
          <p:nvPr/>
        </p:nvSpPr>
        <p:spPr>
          <a:xfrm>
            <a:off x="5486400" y="2209680"/>
            <a:ext cx="60948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Heur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ZoneTexte 10"/>
          <p:cNvSpPr/>
          <p:nvPr/>
        </p:nvSpPr>
        <p:spPr>
          <a:xfrm>
            <a:off x="5486400" y="2514600"/>
            <a:ext cx="60948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Heur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ZoneTexte 11"/>
          <p:cNvSpPr/>
          <p:nvPr/>
        </p:nvSpPr>
        <p:spPr>
          <a:xfrm>
            <a:off x="5486400" y="2819520"/>
            <a:ext cx="60948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Heur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ZoneTexte 12"/>
          <p:cNvSpPr/>
          <p:nvPr/>
        </p:nvSpPr>
        <p:spPr>
          <a:xfrm>
            <a:off x="2362320" y="3276720"/>
            <a:ext cx="4572000" cy="367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Description du Problème ou du constat: </a:t>
            </a: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(Qu’est il arrivé et Pourquoi)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ZoneTexte 13"/>
          <p:cNvSpPr/>
          <p:nvPr/>
        </p:nvSpPr>
        <p:spPr>
          <a:xfrm>
            <a:off x="2362320" y="4781520"/>
            <a:ext cx="18288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Rapporté par: (Nom du personnel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ZoneTexte 14"/>
          <p:cNvSpPr/>
          <p:nvPr/>
        </p:nvSpPr>
        <p:spPr>
          <a:xfrm>
            <a:off x="2362320" y="5410080"/>
            <a:ext cx="4572000" cy="367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Action Corrective prise: </a:t>
            </a: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(Qu’est ce qui a été fait pour prévenir la réapparition du problème))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ZoneTexte 15"/>
          <p:cNvSpPr/>
          <p:nvPr/>
        </p:nvSpPr>
        <p:spPr>
          <a:xfrm>
            <a:off x="2819520" y="2209680"/>
            <a:ext cx="144756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Constat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8DE33-1A93-4245-9DF1-5BE88CC0FE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« Vous êtes le responsable qualité dans votre laboratoire et vous voulez organiser un audit interne. »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Quelles étapes allez vous suivre?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Espace réservé du pied de page 2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721B4-5D51-4E8B-969A-058B7896DE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Oval 9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Text Box 10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Le contrôle continu est l’élément clef du succès du système qualit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8" name="Picture 4" descr="MCj04326350000[1]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5" descr="MCj02153560000[1]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7" descr="MCj01567530000[1]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B031C-769B-472F-A61B-0FE9DF3316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3" name="Picture 92" descr="Untitled-9"/>
          <p:cNvPicPr/>
          <p:nvPr/>
        </p:nvPicPr>
        <p:blipFill>
          <a:blip r:embed="rId1"/>
          <a:stretch/>
        </p:blipFill>
        <p:spPr>
          <a:xfrm>
            <a:off x="304920" y="603360"/>
            <a:ext cx="8381880" cy="57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EAE24-D1CA-44F3-9BE8-509015C48E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2"/>
          <p:cNvSpPr/>
          <p:nvPr/>
        </p:nvSpPr>
        <p:spPr>
          <a:xfrm>
            <a:off x="685800" y="1371600"/>
            <a:ext cx="7696080" cy="472572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fr-FR" sz="4000" spc="-1" strike="noStrike">
                <a:solidFill>
                  <a:srgbClr val="ffff00"/>
                </a:solidFill>
                <a:latin typeface="Verdana"/>
                <a:ea typeface="Arial"/>
              </a:rPr>
              <a:t>Ce n’est pas ce que vous trouvez…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Verdana"/>
                <a:ea typeface="Arial"/>
              </a:rPr>
              <a:t>C’est ce que vous faîtes de ce que vous trouvez.”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0BA96-93AC-49B2-B426-64999B41C8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évaluation est importante dans le contrôle de l’efficacité du système qualité du laboratoir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audits externes et internes fournissent des informations utile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des résultats de l’évaluation est de trouver les causes du problème et de prendre des mesures corrective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7E297-F2E8-4A38-8A10-975478A822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Tous les laboratoires devraient établir un programme d’audit interne. Conduit régulièrement, il fournira des informations favorisant les améliorations continu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problèmes deviennent alors des opportunités d’amélio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Espace réservé du pied de page 2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24759-A5A4-4F0F-A22C-EAC4DFFB8B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714640" y="2971440"/>
            <a:ext cx="3048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Commentaire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8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80880" y="1295280"/>
            <a:ext cx="4648320" cy="44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ce réservé du pied de page 2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AA210-40AC-4060-B3D4-6E50214C90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28" name="Picture 274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9528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CCE9B-5F46-412A-BBB1-99826C5BC2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valuation — 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807696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analyse systématique de certaines (ou de toutes) parties du système de gestion de la qual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formité aux exigen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9" descr="spy_guy"/>
          <p:cNvPicPr/>
          <p:nvPr/>
        </p:nvPicPr>
        <p:blipFill>
          <a:blip r:embed="rId1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C:\Users\Laurence\AppData\Local\Temp\Rar$DI00.100\bulles_def.gif"/>
          <p:cNvPicPr/>
          <p:nvPr/>
        </p:nvPicPr>
        <p:blipFill>
          <a:blip r:embed="rId2"/>
          <a:stretch/>
        </p:blipFill>
        <p:spPr>
          <a:xfrm>
            <a:off x="4495680" y="3884760"/>
            <a:ext cx="1981440" cy="19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5FC24-C687-4DC8-8956-7D57FF56B4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ubOvalCallout"/>
          <p:cNvSpPr/>
          <p:nvPr/>
        </p:nvSpPr>
        <p:spPr>
          <a:xfrm>
            <a:off x="228600" y="1143000"/>
            <a:ext cx="7086600" cy="5410080"/>
          </a:xfrm>
          <a:prstGeom prst="pi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’est-ce qu’une évaluation 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</a:rPr>
              <a:t>Une personne deman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5" descr="j0234625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1219320" y="2209680"/>
            <a:ext cx="518148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Qu’est ce qui est fait ?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Cela est il conforme aux lignes de conduite et aux procédure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77CA3-E2D0-4869-AB2D-D844D982F2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ourquoi faire une évaluation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pprendre “ où nous en sommes ” en terme de gestion de la qualit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esurer les écar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Besoin d’information pour 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lanifier, mettre en oeuv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trôle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mélioration contin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4" descr="MCBD19903_0000[1]"/>
          <p:cNvPicPr/>
          <p:nvPr/>
        </p:nvPicPr>
        <p:blipFill>
          <a:blip r:embed="rId1"/>
          <a:stretch/>
        </p:blipFill>
        <p:spPr>
          <a:xfrm>
            <a:off x="6934320" y="2362320"/>
            <a:ext cx="190476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64396-735F-4514-8285-D924476ECC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24" descr="lab_design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5791320" y="2438280"/>
            <a:ext cx="335268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Oval 8"/>
          <p:cNvSpPr/>
          <p:nvPr/>
        </p:nvSpPr>
        <p:spPr>
          <a:xfrm>
            <a:off x="5943600" y="2971800"/>
            <a:ext cx="297180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roupe ou agences extérie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Audit</a:t>
            </a:r>
            <a:br>
              <a:rPr sz="3600"/>
            </a:b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Audit extern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Line 17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Line 18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Line 19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21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Qualité au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Text Box 22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AutoShape 27"/>
          <p:cNvSpPr/>
          <p:nvPr/>
        </p:nvSpPr>
        <p:spPr>
          <a:xfrm rot="5400000">
            <a:off x="1523880" y="3276360"/>
            <a:ext cx="1143000" cy="53352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AutoShape 28"/>
          <p:cNvSpPr/>
          <p:nvPr/>
        </p:nvSpPr>
        <p:spPr>
          <a:xfrm rot="13572000">
            <a:off x="3352680" y="4876200"/>
            <a:ext cx="1143000" cy="53352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51AEF-3D86-4626-BEFE-25ACC99071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heminement du spécime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17" descr=""/>
          <p:cNvPicPr/>
          <p:nvPr/>
        </p:nvPicPr>
        <p:blipFill>
          <a:blip r:embed="rId1"/>
          <a:srcRect l="0" t="12742" r="0" b="0"/>
          <a:stretch/>
        </p:blipFill>
        <p:spPr>
          <a:xfrm>
            <a:off x="304920" y="1338120"/>
            <a:ext cx="8305560" cy="47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1:22:00Z</dcterms:created>
  <dc:creator>sam5</dc:creator>
  <dc:description/>
  <dc:language>en-US</dc:language>
  <cp:lastModifiedBy>dolmazonv</cp:lastModifiedBy>
  <dcterms:modified xsi:type="dcterms:W3CDTF">2010-04-07T17:06:09Z</dcterms:modified>
  <cp:revision>152</cp:revision>
  <dc:subject/>
  <dc:title>Slide 1</dc:title>
</cp:coreProperties>
</file>